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750-54D9-4A51-B3FB-5522A052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000-F6A0-409F-BDD2-085C80B9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A2A-199C-45FF-B108-F59DF90C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5AD0-72D4-4ADD-BBA0-13276B96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0BED-1149-4C9C-9CE5-2BD63D85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4B39-F12D-41FF-A7BC-04C0416D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E310-D693-4B65-8A5F-562F4060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30A02-174C-4CFD-A734-93EAEFED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4004-0462-4419-9017-69C0D78F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8178-2D86-44CD-A51C-1C69792E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8A07A-F357-4753-A028-CC37C224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7AA-02C1-48E5-91AA-D317E8BD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E450-9EEB-4EEA-9563-617F8666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5D5B-911F-412D-8494-0C70DBCF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20B4-3009-4712-A64F-17BCF0FD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33B8-5273-479F-AE89-FB35D7B0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280B-CCEB-45F7-8B80-0FBC98834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726-D266-4C9F-B3E2-DC2DA887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FC2E-CF1A-44BD-8ED2-4584C91AF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04F-DFBC-45C7-AD81-493201E0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16E-F81E-44DA-8815-96EE69DF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D21E-233B-49D2-8BF4-70EE75F8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869-3EC0-462F-9047-0CEB353A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A366-A3CE-4B7E-B978-52B293B6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7D9A-97D7-42B3-B782-85FC466D519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B004-6B3C-463E-BBD5-8F617C6FB4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ОВНЕ СТРУКОВНЕ СТУД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овна медицинска сест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е, евалуационе и терапијске технике у инфективним болест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. др Жељко Мијаилови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едикаментоз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ипр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там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рентерал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ч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оч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абле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азепам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па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вођ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ош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абл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азеп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Физич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ипрем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уп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треб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риј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а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бух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уд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чер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оч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кш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ручку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плик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ауни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траве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Од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материјал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припремити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нз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кох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ош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ери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упфер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з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ери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мпрес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укав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инце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изгал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5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1" lang="sr-Latn-CS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г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плика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1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дока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5-10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l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зиолош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ст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п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сец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ха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к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лаш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ксато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10%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ормалдехи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ка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укопл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убрежњ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шти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л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к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Извођење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биопс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ђ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врд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дло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у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сп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а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ре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е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ан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р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в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ку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мул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р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бриз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естет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ојев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с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ж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гл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ст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к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стиск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зиолош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ст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лач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а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б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г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ањ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унд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тискива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стиск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ки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ха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к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ки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лашиц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0%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ормалехи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во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ецијал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треб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чк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Поступак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после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биопс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Збрињава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бод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с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мпре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кс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укоплас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в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е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уч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чер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арљи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ул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а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3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еди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лиформ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л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ар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Сла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узор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хистолош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егл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иј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сеч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лашиц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0%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ормал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лаш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тво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тикет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ави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пуње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путни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а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тохистолош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гл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аспрема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атериј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потребљ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терија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нократ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потреб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а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терија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струме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шекрат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потреб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ерилиш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ерилиза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гу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в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параскоп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гле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љ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п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орталит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и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њ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01%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репознат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збринут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ар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ва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п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нкцио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п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тоторакс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неумотора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фора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уч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е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лиј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то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бад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нкцио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л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убрег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р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еди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отен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уз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ој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хикард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осред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п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агус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актеријем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п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п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стрем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~PP3095.WAV" descr=""/>
          <p:cNvPicPr/>
          <p:nvPr/>
        </p:nvPicPr>
        <p:blipFill>
          <a:blip r:embed="rId8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759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УЛОГА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МЕДИЦИНСКЕ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СЕСТРЕ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ПРИ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ИЗВОЂЕЊУ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ЛУМБАЛНЕ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ПУНК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ваз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цед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с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рол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с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фер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в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компре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ац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дикамен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ћ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икас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пход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глас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цијен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б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а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гл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барахноид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ст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иј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ереброспин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lang="sr-Latn-CS" sz="2400" spc="-1" strike="noStrike" baseline="-25000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lang="sr-Latn-CS" sz="2400" spc="-1" strike="noStrike" baseline="-25000">
                <a:solidFill>
                  <a:srgbClr val="ffffff"/>
                </a:solidFill>
                <a:latin typeface="Times New Roman"/>
              </a:rPr>
              <a:t>5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Квинкеов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ли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умбал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унк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во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ганиза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дици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ст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Седећ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олож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ључ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вес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т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ле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окрет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ште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в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жа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уч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њ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уч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ниж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ре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е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н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ба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ме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сил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ат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ротн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в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во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ат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рст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бух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ји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о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ксир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ов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м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ниж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гам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ксир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ов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г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же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лож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годн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а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ив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кладн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јасн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е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н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к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ђ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иц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ељ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в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сималн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д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г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еним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кови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оји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ам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хват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г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е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еб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лач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и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ат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иц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вет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лактицо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ш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тисак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бу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сив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ни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лож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стук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уч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иц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вет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ам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дно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ш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лектир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г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им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е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ко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ж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лач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и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ат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иц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вет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иску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бу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лач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г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к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треб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лан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е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п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ступа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град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рава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терија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ш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шти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убрежњ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зинфекц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редст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з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х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ид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-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ри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ош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ри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пфер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ри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ав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окра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л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ст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рувет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стет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те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уме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еп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ОКУМЕНТАЦИЈА ЗДРАВСТВЕНЕ НЕГ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914040"/>
            <a:ext cx="7696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куп сачуваних података о појединцу, породици и заједници, који се односе на дијагностику, лечење, негу и рехабилитацију, или на превенцију болести, очување и унапређење здрав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обра документациј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Једноставна и разумљива за корисни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Одражава актуелно и претходно стање болесника/корисника и његове потребе за нег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Чини логичну целину у односу на потребе боле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ника за нег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У сваком тренутку показује шта је, када и како урађено у вези са негом болесника/корисн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оказује да ли су и у којој мери остварени циљеви за одређени период или изведене интервен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Извођење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интерв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сп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умб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двлач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ш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мпрес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шт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нал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винкео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н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еђ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ач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бо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зинфик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нцип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рур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пре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нз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кох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ид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коли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ри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ери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укав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топ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коли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упф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ид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од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агод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ст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с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д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гл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ки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ож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унк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им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ереброспин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ч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к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9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п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х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кроби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рек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пар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те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глут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г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бо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кс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ласте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Збрињавање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ељ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ђ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асту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ред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ош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трбу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к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рет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ељ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асту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стај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звољ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спрем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териј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трош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терија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аљу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терија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струме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шекрат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потреб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з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рилиз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лање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ик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ор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икети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аљ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боратор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арају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прат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оли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ма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еј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к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у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оста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7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к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ма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е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ик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ЛИКВОРСКИ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НАЛАЗ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4568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ормала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ликвор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с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стич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орм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тис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леман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5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еинорах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0,45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икорах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1/2-2/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икем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рус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енинг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с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тис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ач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x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0-x100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y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еинорах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ла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иш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икорах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ормал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актериј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енингити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тис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ач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лемен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x100-x1000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MN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еинорах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иш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икорах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ниж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ОРГАНИЗАЦИЈА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ВАКЦИНАЦИЈЕ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ПРОТИВ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ИНФЕКТИВНИХ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БОЛЕСТ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в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реча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рово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етљи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иму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изи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и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</a:rPr>
              <a:t>Природ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</a:rPr>
              <a:t>Актив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тич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након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рележа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</a:rPr>
              <a:t>Пасив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доб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трансплацентарн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мајк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</a:rPr>
              <a:t>Вешта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</a:rPr>
              <a:t>Актив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вакцинац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</a:rPr>
              <a:t>Пасив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еропрофилакс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</a:rPr>
              <a:t>АКТИВН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</a:rPr>
              <a:t>ИМУНИЗАЦИЈ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уп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езбеђ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тпор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ганиз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еђе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генс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акц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ар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стич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з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из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кон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аве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ан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Б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тус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фтер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омие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б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б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о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д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та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инуир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демиолош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икац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мпањ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76320"/>
            <a:ext cx="8153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Фазе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у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спровођењу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вакцин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ипрем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ф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лан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имуниз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чет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а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но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др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итор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пшт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но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з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Календар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вакцина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одац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матич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лужб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општи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држ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дат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еме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вођ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з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Евиденција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бвез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дравств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ж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но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шко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бављ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дата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везниц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м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р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а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ан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зац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да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еба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иј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тичар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ж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пшт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ипрема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евиденционо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документационог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материј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акцинал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карт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Датум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имунизациј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Назив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вакц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Име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произвођач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Серија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број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вакцин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Контраиндикације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због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којих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вакцинација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није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обављ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Поствакциналне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реакције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1800" spc="-1" strike="noStrike">
                <a:solidFill>
                  <a:srgbClr val="ffffff"/>
                </a:solidFill>
                <a:latin typeface="Times New Roman"/>
              </a:rPr>
              <a:t>евентуално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Уложак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здравстве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књиж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љ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вештај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с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њ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ављ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из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алу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улт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авез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из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евизија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артотеке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обавезне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имуниз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ухв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ш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ођ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8.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мла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т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вакцинис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ганизо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пунс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дравствено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аспитн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рх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езбед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ксим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з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ухват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двиђ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а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з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стављ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з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е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з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го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а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с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одитељ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редст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ормис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ве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чин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д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вал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ронаж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с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ветовалиш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ветовалиш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КАЛЕНДАР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ОБАВЕЗНЕ</a:t>
            </a:r>
            <a:r>
              <a:rPr b="1" lang="sr-Latn-C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ИМУНИЗА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914400"/>
          <a:ext cx="7543800" cy="4664160"/>
        </p:xfrm>
        <a:graphic>
          <a:graphicData uri="http://schemas.openxmlformats.org/drawingml/2006/table">
            <a:tbl>
              <a:tblPr/>
              <a:tblGrid>
                <a:gridCol w="1508040"/>
                <a:gridCol w="1509840"/>
                <a:gridCol w="1508040"/>
                <a:gridCol w="1509480"/>
                <a:gridCol w="1508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УЗРАС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</a:t>
                      </a: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ођењ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CG 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66ccff"/>
                          </a:solidFill>
                          <a:latin typeface="Times New Roman"/>
                        </a:rPr>
                        <a:t>HEPATIT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е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DPT 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OPV 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66ccff"/>
                          </a:solidFill>
                          <a:latin typeface="Times New Roman"/>
                        </a:rPr>
                        <a:t>HEPATIT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 ½ 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е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DPT 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OPV 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66ccff"/>
                          </a:solidFill>
                          <a:latin typeface="Times New Roman"/>
                          <a:ea typeface="Times New Roman"/>
                        </a:rPr>
                        <a:t>Hi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есец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66ccff"/>
                          </a:solidFill>
                          <a:latin typeface="Times New Roman"/>
                          <a:ea typeface="Times New Roman"/>
                        </a:rPr>
                        <a:t>Hi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DPT 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OPV 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66ccff"/>
                          </a:solidFill>
                          <a:latin typeface="Times New Roman"/>
                        </a:rPr>
                        <a:t>HEPATIT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 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ин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66ccff"/>
                          </a:solidFill>
                          <a:latin typeface="Times New Roman"/>
                          <a:ea typeface="Times New Roman"/>
                        </a:rPr>
                        <a:t>Hi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DPT 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OPV 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9900"/>
                          </a:solidFill>
                          <a:latin typeface="Times New Roman"/>
                        </a:rPr>
                        <a:t>MMR V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 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DT 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OPV 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M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66ccff"/>
                          </a:solidFill>
                          <a:latin typeface="Times New Roman"/>
                        </a:rPr>
                        <a:t>HEPATIT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 </a:t>
                      </a:r>
                      <a:r>
                        <a:rPr b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и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66ff33"/>
                          </a:solidFill>
                          <a:latin typeface="Times New Roman"/>
                          <a:ea typeface="Times New Roman"/>
                        </a:rPr>
                        <a:t>D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OPV 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0912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Прв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годин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жив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з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уберкулоз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S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тпуш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родилиш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но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врш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кас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0,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l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з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ифтер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етану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елик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каш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рш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ма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из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ч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рали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тип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рш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ма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б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зилекто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из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mofilu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ОБЛИЦИ ВОЂЕЊА СЕСТРИНСКЕ ДОКУМЕНТАЦИЈЕ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ЗАЈЕДНИЧКА ДОКУМЕН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ијемна ли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Важни подаци о болеснику (са аспекта медицине, неге и других области у вези са здравље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одатке узима лекар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естра додаје информације о утврђеним потребама болесника за нег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иста пробл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од редним бројем сви значајни проблеми болесника (медицинска и сестринске дијагноз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остављају се циљеви лечења, неге и рехабилита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0769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Друг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годин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жив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з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гињ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зауша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убе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врш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е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кас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врш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е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ифтер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етану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ертус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итип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еч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арали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Седм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годин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жив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ифтер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етан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п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нов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кол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олиомијелит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итип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ру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ал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гињ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убе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Дванаест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годин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жив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долесцен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о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ухваћ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зациј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в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Четрнаест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годин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жив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итип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лиомијелит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е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фтер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тан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еб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р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ulti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”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е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вакц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Фаз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звођењ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акцин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тврђивање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онтраиндикација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акцин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авез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гле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тврђ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суст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раинд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венту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раинд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</a:rPr>
              <a:t>Привреме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вакцинац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одлаж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</a:rPr>
              <a:t>Трај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мунизац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заувек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зоста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пш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раинд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ебри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раз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ут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дијум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онвалесц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атопоез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ст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ук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07696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ш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ремећа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убреж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ун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мањ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тпор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ганиз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стат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ио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ртикостерои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ер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стој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хект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ш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л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хит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бете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ециф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раинд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B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mphigu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nat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teru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vi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onator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e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gen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оношча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тус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09120" y="5331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ал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ги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бетича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иш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време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спитализ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обул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улта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инд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есни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ш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инд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в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еди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ри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ађ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ер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и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иф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о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ј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рипрема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а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плик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за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рово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средњ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ш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едицинс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сес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дзо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а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у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пл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од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пу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Визуел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контро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Мућкањ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репарат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хомогенизу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Загревањ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об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температу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репара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рах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да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тилова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лика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енте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з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440" y="228600"/>
            <a:ext cx="79246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Евидентирање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имунизо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њи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виден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дравств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стан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т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един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ож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дравств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њиж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дравствено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аспитн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одитељ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ек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еђ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н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раз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хват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Ц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Фаз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евалу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езултат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муниз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Подношење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извешт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вешта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ар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ред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рам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ов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иза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н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демиолошк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туа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рх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њ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одишњи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вештај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пеху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мунизације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сељи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звештај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нежељени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згредни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ојавам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ток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провођењ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обавезни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мунизац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заразни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Анализ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вакциналног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татус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оболел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Контрола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успешност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имуниз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поред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аћ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о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ис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но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оле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еђ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п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ис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но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двиђ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о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Здравствено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-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васпитн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ра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смер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одит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л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и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ис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држ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прем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одитељ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и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азв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зи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вођ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раинд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лаг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з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-360"/>
            <a:ext cx="807732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Имунизациј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против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хепатитис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иј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ет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жењеринг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псол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гур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ум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мпоне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т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дтип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ењ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ивот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жељ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лаз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лаг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авез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зац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длеж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Лиц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здравствени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становам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ко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долаз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нфицирани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људим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заразни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материјал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Новорођенча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BsAg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мај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ексуалн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артнер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BsAg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Хемофилича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хемодијализ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штићениц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завод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заменталн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ретардиран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нсулин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зависн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дијабетичар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нтравенск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наркома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1760" y="1143000"/>
            <a:ext cx="79246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авез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зац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длеж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тврђ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суст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рк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BsA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iHBc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ис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0,1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, 6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0,5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оворођенч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ас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компромитов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0, 1, 2, 12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уп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осте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tiHB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120" y="228600"/>
            <a:ext cx="80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лан третм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рави се на основу претходне дв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За сваки проблем (групу) предвиђа се целокупни третман: дијагностичко-терапијске процедуре, време за праћење одређених параметара, самосталне сестринске интервенције и интервенције везане за рехабилитациј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иста реализације третмана и праћења тока болести и других пробл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реглед остварених интервенција сваког члана тима, ефикасност, реаговање и кретање стања болесн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Отпусна ли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Резултати третмана, завршна евалуација исход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репоруке за даље лечење, негу и вођење здравог начина живо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Имунизациј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повређених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против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тетан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д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за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ређе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вис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т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ређе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ређ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ис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вакцинис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тан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ис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вакцинис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ш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а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10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ирурш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брад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ређ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ис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вакцинис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тан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кцинис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вакцинис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ш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10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годи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+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табули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250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ђ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ис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мпле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ис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вакцинис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иден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цинал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у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e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0, 1, 7)+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етабули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250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Серо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нош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ганиза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то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шт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аста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рз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кра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дострож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ик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јед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б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ензибилиза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авез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вер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ергијс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етез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онхиј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т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кц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ртикар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ле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ијав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глав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ум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у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талп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БИ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д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штит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и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у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Десензибилизациј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(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животињски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серуми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га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амнест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да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ергијск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те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род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амне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у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об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традерм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0,1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l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еразблажен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серу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30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&lt; 5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ризг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уп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и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б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кут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5-10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mm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ов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2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l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разблажен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у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5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сетљ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ризг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купн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з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б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кут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еа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&gt; 10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mm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озитив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лергијс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     дијат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ДЕСЕНЗИБИЛИЗ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 ml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у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0,9 ml 0,9% Nac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         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0,1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дерм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риз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5m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0,2 ml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стог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азблажењ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.c.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&lt; 5 m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0,5 ml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стог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азбл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жењ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.c.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ци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0,1ml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разблажен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ер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дермал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1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остатак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дозе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б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ку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Серопрофилакс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хепатитиса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циден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вљ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BsA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дравств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д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су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BsA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ође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BsA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BeA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ј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ас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12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. 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BI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но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путст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200-250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.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но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путст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ма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кас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809880" y="37339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09120" y="533520"/>
            <a:ext cx="8001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ЗДВОЈЕНА СЕСТРИНСКА ДОКУМЕНТ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Сестринска пријемна лист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(сестринска анамнез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одаци о потребама болесника за нег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ицијална сестринска дијагно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двајање приорите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вљање циљева и израда плана здравствене нег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 здравствене нег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ументовање болесникових проблема, постављених циље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а реализације и праћења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ављене интервенције медицинске сест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стринска отпусна листа→упутства за даљу негу и самонегу 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УЛОГА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МЕДИЦИНСКЕ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СЕСТРЕ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ПРИ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ИЗВОЂЕЊУ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БИОПСИЈЕ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66ff33"/>
                </a:solidFill>
                <a:latin typeface="Times New Roman"/>
              </a:rPr>
              <a:t>ЈЕТР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ваз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с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цед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е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ункц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пирац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ис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глас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с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Клиничк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оремећај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лабораторијски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налаз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нис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пецифичн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љ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ођ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параско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3200400" y="45720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д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Хронич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утоиму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с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лкохо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еат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еатофибр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р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у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кохо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Хепатоцелулар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ктерус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ејасн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узр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етаболичк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милоид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икоген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м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ифузн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алигн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илтрациј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dgkin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dgkin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м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грануломатоз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љ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м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имарн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илијарн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цироз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м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оксич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штећењ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м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игмент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цироз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јет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l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охромат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1532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раинд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псолут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Цист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јетр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ехинококус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рође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Хемангиом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каверном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васкуларн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тумор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општ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Тромбоцитопен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&lt; 80.000/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Значајниј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оремећај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хемостаз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Апсцес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јетр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Екстремн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емфизе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лућ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иоге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кож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регион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ункц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латив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Застој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јет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нижен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фактор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коагула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СП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колик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В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&lt;5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План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66ff33"/>
                </a:solidFill>
                <a:latin typeface="Times New Roman"/>
              </a:rPr>
              <a:t>р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с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мбулан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говор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олог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кумен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глас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али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омб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кто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аг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у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h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кт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т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уд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х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бдо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сихич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ипр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Болесник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објасни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разлог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техник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звођењ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роцедур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могућ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комплика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назначи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неопходност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адекват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арадњ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ток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звођењ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биопс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4:22:40Z</dcterms:created>
  <dc:creator>Canovic</dc:creator>
  <dc:description/>
  <dc:language>en-US</dc:language>
  <cp:lastModifiedBy>Predrag Canovic</cp:lastModifiedBy>
  <dcterms:modified xsi:type="dcterms:W3CDTF">2023-02-03T02:05:16Z</dcterms:modified>
  <cp:revision>232</cp:revision>
  <dc:subject/>
  <dc:title>Slide 1</dc:title>
</cp:coreProperties>
</file>